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58000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705A-659F-4C1E-A743-E4F3E783D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E886-0CDC-4003-BA09-542CC27A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C728-9657-4120-9944-9899E15E2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390B-5ADE-4869-BDBE-9A9349B20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EA90-8819-41FC-B179-BEB5471B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3724-D1CD-45EE-8726-E70C4047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677E-D4AF-4113-9DB3-7D476FF5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5748-8833-44C7-B9DC-6B89C1C8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95D6-8FD0-4B13-B6C8-35C8964B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2D6B-8B7E-42C6-8098-704B22C0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0F0F-9247-4578-9792-2AD52D9B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0D62-5C1C-481B-9942-8FC6CDA6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th-TH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th-TH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EB7345C-44E7-4B62-BA97-0C99B4C9856F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0612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8578800"/>
            <a:ext cx="1219320" cy="1157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219320" y="3276720"/>
            <a:ext cx="4352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33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ngsanaUPC"/>
              </a:rPr>
              <a:t>ประจำปีงบประมาณ พ</a:t>
            </a: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33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ngsanaUPC"/>
              </a:rPr>
              <a:t>.</a:t>
            </a: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33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ngsanaUPC"/>
              </a:rPr>
              <a:t>ศ</a:t>
            </a: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33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ngsanaUPC"/>
              </a:rPr>
              <a:t>.2551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00"/>
                  </a:gs>
                  <a:gs pos="50000">
                    <a:srgbClr val="ff9933"/>
                  </a:gs>
                  <a:gs pos="100000">
                    <a:srgbClr val="990000"/>
                  </a:gs>
                </a:gsLst>
                <a:lin ang="5400000"/>
              </a:gradFill>
              <a:latin typeface="AngsanaUPC"/>
              <a:ea typeface="AngsanaUPC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14400" y="2438280"/>
            <a:ext cx="5029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33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ngsanaUPC"/>
              </a:rPr>
              <a:t>คำรับรองการปฏิบัติราชการ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00"/>
                  </a:gs>
                  <a:gs pos="50000">
                    <a:srgbClr val="ff9933"/>
                  </a:gs>
                  <a:gs pos="100000">
                    <a:srgbClr val="990000"/>
                  </a:gs>
                </a:gsLst>
                <a:lin ang="5400000"/>
              </a:gradFill>
              <a:latin typeface="AngsanaUPC"/>
              <a:ea typeface="AngsanaUPC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52680" y="8972640"/>
            <a:ext cx="5029200" cy="4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5000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UPC"/>
              </a:rPr>
              <a:t>สำนักงานคณะกรรมการพัฒนาการเศรษฐกิจและสังคมแห่งชาติ</a:t>
            </a:r>
            <a:endParaRPr b="1" lang="en-US" sz="2800" spc="1" strike="noStrike">
              <a:ln w="1260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5000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UPC"/>
              <a:ea typeface="AngsanaUPC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633760" y="533520"/>
            <a:ext cx="1589040" cy="1541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120680" y="4572000"/>
            <a:ext cx="461664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52480" y="8420040"/>
            <a:ext cx="441972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th-TH" sz="2300" spc="-1" strike="noStrike">
                <a:solidFill>
                  <a:srgbClr val="000000"/>
                </a:solidFill>
                <a:latin typeface="Baskerville Old Face"/>
              </a:rPr>
              <a:t>962 </a:t>
            </a:r>
            <a:r>
              <a:rPr b="1" lang="th-TH" sz="2300" spc="-1" strike="noStrike">
                <a:solidFill>
                  <a:srgbClr val="000000"/>
                </a:solidFill>
                <a:latin typeface="Baskerville Old Face"/>
              </a:rPr>
              <a:t>ถนนกรุงเกษม แขวงวัดโสมนัส                      เขตป้อมปราบศัตรูพ่าย กรุงเทพฯ </a:t>
            </a:r>
            <a:r>
              <a:rPr b="1" lang="th-TH" sz="2300" spc="-1" strike="noStrike">
                <a:solidFill>
                  <a:srgbClr val="000000"/>
                </a:solidFill>
                <a:latin typeface="Baskerville Old Face"/>
              </a:rPr>
              <a:t>10100 </a:t>
            </a:r>
            <a:r>
              <a:rPr b="1" lang="en-US" sz="2300" spc="-1" strike="noStrike">
                <a:solidFill>
                  <a:srgbClr val="000000"/>
                </a:solidFill>
                <a:latin typeface="Baskerville Old Face"/>
              </a:rPr>
              <a:t>http://www.nesdb.go.t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80880" y="7467480"/>
            <a:ext cx="4953240" cy="162000"/>
            <a:chOff x="380880" y="7467480"/>
            <a:chExt cx="4953240" cy="162000"/>
          </a:xfrm>
        </p:grpSpPr>
        <p:sp>
          <p:nvSpPr>
            <p:cNvPr id="50" name=""/>
            <p:cNvSpPr/>
            <p:nvPr/>
          </p:nvSpPr>
          <p:spPr>
            <a:xfrm>
              <a:off x="380880" y="7629480"/>
              <a:ext cx="4343400" cy="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90720" y="7467480"/>
              <a:ext cx="4343400" cy="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 txBox="1"/>
          <p:nvPr/>
        </p:nvSpPr>
        <p:spPr>
          <a:xfrm>
            <a:off x="1924200" y="7924680"/>
            <a:ext cx="45720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5000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gsanaUPC"/>
              </a:rPr>
              <a:t>สำนักงานคณะกรรมการพัฒนาการเศรษฐกิจและสังคมแห่งชาติ</a:t>
            </a:r>
            <a:endParaRPr b="1" lang="en-US" sz="2800" spc="1" strike="noStrike">
              <a:ln w="1260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5000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gsanaUPC"/>
              <a:ea typeface="AngsanaUPC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384280" y="853920"/>
            <a:ext cx="21114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4T14:04:20Z</dcterms:created>
  <dc:creator>win</dc:creator>
  <dc:description/>
  <dc:language>en-US</dc:language>
  <cp:lastModifiedBy>chura</cp:lastModifiedBy>
  <dcterms:modified xsi:type="dcterms:W3CDTF">2008-04-25T06:27:03Z</dcterms:modified>
  <cp:revision>65</cp:revision>
  <dc:subject/>
  <dc:title>Slide 1</dc:title>
</cp:coreProperties>
</file>